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05C6-694E-4837-9A51-C98183695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C97E-BB4D-4B50-BBDD-60CB6B92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3804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3804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FC08-BD89-41EF-A545-37635B645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67624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12388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67624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12388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469A-82C7-4BC5-B3DB-6C3E199B8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D24D-F0F5-4ACA-8B0C-97610625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FBBD-1097-462C-97DE-10F7B1F2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3804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3BC8-C06A-4232-B292-6A581925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1C53-4CA1-4BB8-B1A5-E6766DE4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F472-DAEA-4022-9074-44C27B77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3804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B1DA-ED5E-44AF-BF08-AB2BF292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3804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3804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F26A-DAB9-41BB-9CC6-A8E3EEDD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3804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B6C0-6721-4491-BA56-EA1278B1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magicbox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7162920" y="3809880"/>
            <a:ext cx="2101680" cy="2438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0" descr="buducnost"/>
          <p:cNvPicPr/>
          <p:nvPr/>
        </p:nvPicPr>
        <p:blipFill>
          <a:blip r:embed="rId3">
            <a:lum bright="30000"/>
          </a:blip>
          <a:stretch/>
        </p:blipFill>
        <p:spPr>
          <a:xfrm>
            <a:off x="7426440" y="533520"/>
            <a:ext cx="1717560" cy="2819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c3c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286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8454-7E90-480B-ABDE-4D0D910FB5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pozadina2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228600" y="0"/>
            <a:ext cx="7315200" cy="6846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960" y="609120"/>
            <a:ext cx="7848360" cy="200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700" spc="-1" strike="noStrike">
                <a:solidFill>
                  <a:srgbClr val="bc3c26"/>
                </a:solidFill>
                <a:latin typeface="Calibri"/>
              </a:rPr>
              <a:t>Нови хоризонт дигитализације у Србији:  </a:t>
            </a:r>
            <a:br>
              <a:rPr sz="2700"/>
            </a:br>
            <a:r>
              <a:rPr b="1" lang="sr-BA" sz="2700" spc="-1" strike="noStrike">
                <a:solidFill>
                  <a:srgbClr val="bc3c26"/>
                </a:solidFill>
                <a:latin typeface="Calibri"/>
              </a:rPr>
              <a:t>унапређење процеса дигитализације кроз сарадњу са водећим светским институцијама </a:t>
            </a:r>
            <a:br>
              <a:rPr sz="2700"/>
            </a:br>
            <a:r>
              <a:rPr b="1" lang="sr-BA" sz="2700" spc="-1" strike="noStrike">
                <a:solidFill>
                  <a:srgbClr val="bc3c26"/>
                </a:solidFill>
                <a:latin typeface="Calibri"/>
              </a:rPr>
              <a:t>и развој сопствених дигиталних алата</a:t>
            </a:r>
            <a:br>
              <a:rPr sz="2700"/>
            </a:br>
            <a:endParaRPr b="0" lang="en-US" sz="27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0720" y="2971440"/>
            <a:ext cx="66470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200" spc="-1" strike="noStrike">
                <a:solidFill>
                  <a:srgbClr val="000000"/>
                </a:solidFill>
                <a:latin typeface="Calibri"/>
              </a:rPr>
              <a:t>Универзитет у Београду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200" spc="-1" strike="noStrike">
                <a:solidFill>
                  <a:srgbClr val="000000"/>
                </a:solidFill>
                <a:latin typeface="Calibri"/>
              </a:rPr>
              <a:t>Универзитетска библиотека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sr-BA" sz="2200" spc="-1" strike="noStrike">
                <a:solidFill>
                  <a:srgbClr val="000000"/>
                </a:solidFill>
                <a:latin typeface="Calibri"/>
              </a:rPr>
              <a:t>Светозар Марковић“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Calibri"/>
              </a:rPr>
              <a:t>Никола Смоленски, Немања Жикић, Матеа Милошевић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Calibri"/>
              </a:rPr>
              <a:t>Милена Костић,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р </a:t>
            </a:r>
            <a:r>
              <a:rPr b="0" lang="sr-BA" sz="1800" spc="-1" strike="noStrike">
                <a:solidFill>
                  <a:srgbClr val="000000"/>
                </a:solidFill>
                <a:latin typeface="Calibri"/>
              </a:rPr>
              <a:t>Василије Милновић,  др Адам Софронијеви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c3c26"/>
                </a:solidFill>
                <a:latin typeface="Calibri"/>
              </a:rPr>
              <a:t>Therefore</a:t>
            </a:r>
            <a:r>
              <a:rPr b="0" lang="en-US" sz="4000" spc="-1" strike="noStrike">
                <a:solidFill>
                  <a:srgbClr val="bc3c26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86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фесионални репозиторијум за дуготрајно чување и приказ дигиталног материјала (Универзитетска библиотека “Светозар Марковић”, Универзитетска библиотека Крагујевац, Градска библиотека Нови Сад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ша идеја је мрежа репозиторијума који би омогућили нове могућности у библиотеци: нпр. дигитална међубиблиотечка позајмиц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3000" spc="-1" strike="noStrike">
                <a:solidFill>
                  <a:srgbClr val="bc3c26"/>
                </a:solidFill>
                <a:latin typeface="Calibri"/>
              </a:rPr>
              <a:t>Систем за претраживање и </a:t>
            </a:r>
            <a:br>
              <a:rPr sz="3000"/>
            </a:br>
            <a:r>
              <a:rPr b="1" lang="sr-BA" sz="3000" spc="-1" strike="noStrike">
                <a:solidFill>
                  <a:srgbClr val="bc3c26"/>
                </a:solidFill>
                <a:latin typeface="Calibri"/>
              </a:rPr>
              <a:t>приказ </a:t>
            </a:r>
            <a:r>
              <a:rPr b="1" lang="en-US" sz="3000" spc="-1" strike="noStrike">
                <a:solidFill>
                  <a:srgbClr val="bc3c26"/>
                </a:solidFill>
                <a:latin typeface="Calibri"/>
              </a:rPr>
              <a:t>METS-ALTO</a:t>
            </a:r>
            <a:r>
              <a:rPr b="1" lang="sr-BA" sz="3000" spc="-1" strike="noStrike">
                <a:solidFill>
                  <a:srgbClr val="bc3c26"/>
                </a:solidFill>
                <a:latin typeface="Calibri"/>
              </a:rPr>
              <a:t> фајлова</a:t>
            </a:r>
            <a:endParaRPr b="0" lang="en-US" sz="30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37720" y="2057400"/>
            <a:ext cx="61722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n house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Читава колекција М-А фајлова се може претражити, а приказ је омогућен кроз софтвер у слободном приступ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оз сарадњу са Националном библиотеком Луксембур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bc3c26"/>
                </a:solidFill>
                <a:latin typeface="Calibri"/>
              </a:rPr>
              <a:t>HORIZON 2020 - READ</a:t>
            </a:r>
            <a:endParaRPr b="0" lang="en-US" sz="30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14040" y="1980720"/>
            <a:ext cx="62485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артнери на пројекту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202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TRANS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RIBUS –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звијају се методи и технике за аутоматско препознавање руком писаног тек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куцавање првих 20 стр. текста, након чега алгоритам сам препознаје остатак руком писаног тек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bc3c26"/>
                </a:solidFill>
                <a:latin typeface="Calibri"/>
              </a:rPr>
              <a:t>Magic Box</a:t>
            </a:r>
            <a:endParaRPr b="0" lang="en-US" sz="30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86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квизиција УБСМ – први у источној Европи и трећа библиотека на све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ретраж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вањ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дигиталн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х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садржај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 је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транспарентн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, преко екран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осетљив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г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на додир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док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 истовремено може посматрати конкретна публикациј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у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утентичном стању,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иза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кра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везивање приказа дигиталних и физичких објеката и искуства корисника у виртуелном и физичком простор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bc3c26"/>
                </a:solidFill>
                <a:latin typeface="Calibri"/>
              </a:rPr>
              <a:t>Универзитетска библиотека </a:t>
            </a:r>
            <a:br>
              <a:rPr sz="3000"/>
            </a:br>
            <a:r>
              <a:rPr b="1" lang="sr-CS" sz="3000" spc="-1" strike="noStrike">
                <a:solidFill>
                  <a:srgbClr val="bc3c26"/>
                </a:solidFill>
                <a:latin typeface="Calibri"/>
              </a:rPr>
              <a:t>“Светозар Марковић”</a:t>
            </a:r>
            <a:endParaRPr b="0" lang="en-US" sz="30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14040" y="2133720"/>
            <a:ext cx="60958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ве је прво имплементирано у УБС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ширити на мрежу академских институција и на све остале заинтересоване институције (приватни и јавни сектор, НВ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6840" y="1294920"/>
            <a:ext cx="67057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bc3c26"/>
                </a:solidFill>
                <a:latin typeface="Calibri"/>
              </a:rPr>
              <a:t>ХВАЛА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bc3c26"/>
                </a:solidFill>
                <a:latin typeface="Calibri"/>
              </a:rPr>
              <a:t>НА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bc3c26"/>
                </a:solidFill>
                <a:latin typeface="Calibri"/>
              </a:rPr>
              <a:t>ПАЖЊИ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c3c26"/>
                </a:solidFill>
                <a:latin typeface="Calibri"/>
              </a:rPr>
              <a:t>Садржај</a:t>
            </a:r>
            <a:endParaRPr b="0" lang="en-US" sz="30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09120" y="1752480"/>
            <a:ext cx="63248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вод - пројека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ови хоризонт дигитализације у Србији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напређења процеса дигитализациј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валитетнија дигитализација за квалитетније библиотечке услуг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c3c26"/>
                </a:solidFill>
                <a:latin typeface="Calibri"/>
              </a:rPr>
              <a:t>Пројекат </a:t>
            </a:r>
            <a:br>
              <a:rPr sz="3000"/>
            </a:br>
            <a:r>
              <a:rPr b="1" lang="en-US" sz="3000" spc="-1" strike="noStrike">
                <a:solidFill>
                  <a:srgbClr val="bc3c26"/>
                </a:solidFill>
                <a:latin typeface="Calibri"/>
              </a:rPr>
              <a:t>„Нови хоризонт дигитализације у Србији”</a:t>
            </a:r>
            <a:endParaRPr b="0" lang="en-US" sz="30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286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Calibri"/>
              </a:rPr>
              <a:t>подршка Министарства културе и информисања Владе Р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Calibri"/>
              </a:rPr>
              <a:t>осам партнерских институција у Србиј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BA" sz="1800" spc="-1" strike="noStrike">
                <a:solidFill>
                  <a:srgbClr val="000000"/>
                </a:solidFill>
                <a:latin typeface="Calibri"/>
              </a:rPr>
              <a:t>(Народна библиотека Србије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BA" sz="1800" spc="-1" strike="noStrike">
                <a:solidFill>
                  <a:srgbClr val="000000"/>
                </a:solidFill>
                <a:latin typeface="Calibri"/>
              </a:rPr>
              <a:t>Војни Архив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BA" sz="1800" spc="-1" strike="noStrike">
                <a:solidFill>
                  <a:srgbClr val="000000"/>
                </a:solidFill>
                <a:latin typeface="Calibri"/>
              </a:rPr>
              <a:t>Универзитетска библиотека Крагујевац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BA" sz="1800" spc="-1" strike="noStrike">
                <a:solidFill>
                  <a:srgbClr val="000000"/>
                </a:solidFill>
                <a:latin typeface="Calibri"/>
              </a:rPr>
              <a:t>Библијски институт Богословског факултета УБ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BA" sz="1800" spc="-1" strike="noStrike">
                <a:solidFill>
                  <a:srgbClr val="000000"/>
                </a:solidFill>
                <a:latin typeface="Calibri"/>
              </a:rPr>
              <a:t>Градска библиотека Нови Сад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BA" sz="1800" spc="-1" strike="noStrike">
                <a:solidFill>
                  <a:srgbClr val="000000"/>
                </a:solidFill>
                <a:latin typeface="Calibri"/>
              </a:rPr>
              <a:t>Библиотека “Милутин Бојић”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BA" sz="1800" spc="-1" strike="noStrike">
                <a:solidFill>
                  <a:srgbClr val="000000"/>
                </a:solidFill>
                <a:latin typeface="Calibri"/>
              </a:rPr>
              <a:t>Удружење новинара Србије 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BA" sz="1800" spc="-1" strike="noStrike">
                <a:solidFill>
                  <a:srgbClr val="000000"/>
                </a:solidFill>
                <a:latin typeface="Calibri"/>
              </a:rPr>
              <a:t>БИТЕФ)</a:t>
            </a:r>
            <a:r>
              <a:rPr b="0" lang="sr-BA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c3c26"/>
                </a:solidFill>
                <a:latin typeface="Calibri"/>
              </a:rPr>
              <a:t>Пројекат „Нови хоризонт дигитализације </a:t>
            </a:r>
            <a:br>
              <a:rPr sz="3000"/>
            </a:br>
            <a:r>
              <a:rPr b="0" lang="en-US" sz="3000" spc="-1" strike="noStrike">
                <a:solidFill>
                  <a:srgbClr val="bc3c26"/>
                </a:solidFill>
                <a:latin typeface="Calibri"/>
              </a:rPr>
              <a:t>у Србији”</a:t>
            </a:r>
            <a:endParaRPr b="0" lang="en-US" sz="30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6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Calibri"/>
              </a:rPr>
              <a:t>Нове методе и приступи дигитализацији примењени у овом пројект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Calibri"/>
              </a:rPr>
              <a:t>из искустава сарадње Универзитетске библиотеке „Светозар Марковић“ са водећим светским институцијама као што је Британска национална библиотека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itish Library</a:t>
            </a:r>
            <a:r>
              <a:rPr b="0" lang="sr-BA" sz="20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Calibri"/>
              </a:rPr>
              <a:t>су плод самосталног развоја нових дигиталних алата потребних да би се у одређеним сегментима процеса дигитализације применила жељена унапређе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арадње са институцијама које су партнери на пројекту и осталим институцијама из Србије и регио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bc3c26"/>
                </a:solidFill>
                <a:latin typeface="Calibri"/>
              </a:rPr>
              <a:t>Унапређења процеса дигитализације</a:t>
            </a:r>
            <a:r>
              <a:rPr b="0" lang="en-US" sz="3400" spc="-1" strike="noStrike">
                <a:solidFill>
                  <a:srgbClr val="bc3c26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6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Унапређују се сви сегменти процеса дигитализације од скенирања до корисничког интерфејса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Calibri"/>
              </a:rPr>
              <a:t>референца за боје и димензиј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Calibri"/>
              </a:rPr>
              <a:t>корисничка аутентификација дигиталних материјал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Calibri"/>
              </a:rPr>
              <a:t>пуна претраживост дигиталног текст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S-ALTO</a:t>
            </a:r>
            <a:r>
              <a:rPr b="0" lang="sr-BA" sz="2000" spc="-1" strike="noStrike">
                <a:solidFill>
                  <a:srgbClr val="000000"/>
                </a:solidFill>
                <a:latin typeface="Calibri"/>
              </a:rPr>
              <a:t> фајлов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cWor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fo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Calibri"/>
              </a:rPr>
              <a:t>систем за претраживање и приказ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S-ALTO</a:t>
            </a:r>
            <a:r>
              <a:rPr b="0" lang="sr-BA" sz="2000" spc="-1" strike="noStrike">
                <a:solidFill>
                  <a:srgbClr val="000000"/>
                </a:solidFill>
                <a:latin typeface="Calibri"/>
              </a:rPr>
              <a:t> фајл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rizon2020 RE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gic Bo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700" spc="-1" strike="noStrike">
                <a:solidFill>
                  <a:srgbClr val="bc3c26"/>
                </a:solidFill>
                <a:latin typeface="Calibri"/>
              </a:rPr>
              <a:t>Референца за боје и димензије</a:t>
            </a:r>
            <a:r>
              <a:rPr b="1" lang="sr-BA" sz="3600" spc="-1" strike="noStrike">
                <a:solidFill>
                  <a:srgbClr val="bc3c26"/>
                </a:solidFill>
                <a:latin typeface="Calibri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04760"/>
            <a:ext cx="6324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Calibri"/>
              </a:rPr>
              <a:t>израде професионалних мастер фајлова дигиталних копија важних докумената који садрже референцу за боје и дименз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QP card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– до сада у Србији није одомаћена употреба картица са шемом боја за калибрацију (боје и рулер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700" spc="-1" strike="noStrike">
                <a:solidFill>
                  <a:srgbClr val="bc3c26"/>
                </a:solidFill>
                <a:latin typeface="Calibri"/>
              </a:rPr>
              <a:t>Корисничка аутентификација </a:t>
            </a:r>
            <a:br>
              <a:rPr sz="2700"/>
            </a:br>
            <a:r>
              <a:rPr b="1" lang="sr-BA" sz="2700" spc="-1" strike="noStrike">
                <a:solidFill>
                  <a:srgbClr val="bc3c26"/>
                </a:solidFill>
                <a:latin typeface="Calibri"/>
              </a:rPr>
              <a:t>дигиталних материјала</a:t>
            </a:r>
            <a:r>
              <a:rPr b="0" lang="sr-BA" sz="3600" spc="-1" strike="noStrike">
                <a:solidFill>
                  <a:srgbClr val="bc3c26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2057040"/>
            <a:ext cx="5943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лгоритми који од дигиталног објекта направе сажетак (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MD 5 – British Library; SHA 2 –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меричке институциј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ош један механизам сигурности за који гарантује институција из иностран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3000" spc="-1" strike="noStrike">
                <a:solidFill>
                  <a:srgbClr val="bc3c26"/>
                </a:solidFill>
                <a:latin typeface="Calibri"/>
              </a:rPr>
              <a:t>Пуна претраживост дигиталног текста </a:t>
            </a:r>
            <a:r>
              <a:rPr b="1" lang="en-US" sz="3000" spc="-1" strike="noStrike">
                <a:solidFill>
                  <a:srgbClr val="bc3c26"/>
                </a:solidFill>
                <a:latin typeface="Calibri"/>
              </a:rPr>
              <a:t>METS-ALTO</a:t>
            </a:r>
            <a:r>
              <a:rPr b="1" lang="sr-BA" sz="3000" spc="-1" strike="noStrike">
                <a:solidFill>
                  <a:srgbClr val="bc3c26"/>
                </a:solidFill>
                <a:latin typeface="Calibri"/>
              </a:rPr>
              <a:t> фајлови</a:t>
            </a:r>
            <a:endParaRPr b="0" lang="en-US" sz="30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920" y="2057400"/>
            <a:ext cx="7238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METS-ALTO –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ви у Србији (УБСМ и НБ) можемо да правим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ве фајлове смо добили преко пројект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uropeana Newspap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нституције своје дигиталне објекте (слике) могу да прилагоде тако да добију претраживе докумен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c3c26"/>
                </a:solidFill>
                <a:latin typeface="Calibri"/>
              </a:rPr>
              <a:t>docWorks</a:t>
            </a:r>
            <a:endParaRPr b="0" lang="en-US" sz="4000" spc="-1" strike="noStrike">
              <a:solidFill>
                <a:srgbClr val="bc3c26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14400" y="24379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д нас се то ради преко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docWorks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плика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инистарство културе и информисања Владе Р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8T09:54:11Z</dcterms:created>
  <dc:creator>Milena</dc:creator>
  <dc:description/>
  <dc:language>en-US</dc:language>
  <cp:lastModifiedBy>Tanja</cp:lastModifiedBy>
  <dcterms:modified xsi:type="dcterms:W3CDTF">2016-10-01T10:07:33Z</dcterms:modified>
  <cp:revision>16</cp:revision>
  <dc:subject/>
  <dc:title>Нови хоризонт дигитализације у Србији:  унапређење процеса дигитализације кроз сарадњу са водећим светским институцијама и развој сопствених дигиталних алата</dc:title>
</cp:coreProperties>
</file>