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E4A-6DF1-455A-AD13-97BC060B7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7D8-D664-4264-AE7C-CF15544E2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AD4C-6FDE-4D0A-AB00-C2E0A5857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131-3225-4799-A8DC-E149E4BFE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B609-7D0A-445B-B2E4-B9BFD8976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3B9-AEAA-4254-95AE-36A2C2B12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67FD-38F0-48F3-AAF1-8C1870D13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04C-32CE-447F-8400-074B829FA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A5F-05B6-4B95-8C61-6013D9191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E8D7-D703-43C7-A1A5-8BC407E3B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307188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667040"/>
            <a:ext cx="264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66704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071880"/>
            <a:ext cx="40158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67040"/>
            <a:ext cx="8229600" cy="14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2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yriad Pro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820024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4"/>
          </p:nvPr>
        </p:nvSpPr>
        <p:spPr>
          <a:xfrm>
            <a:off x="3124080" y="6143400"/>
            <a:ext cx="28958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facebook.com/centralniinstitutzakonzervaciju/?fref=ts" TargetMode="External"/><Relationship Id="rId2" Type="http://schemas.openxmlformats.org/officeDocument/2006/relationships/hyperlink" Target="https://drive.google.com/file/d/0B4I8qSqN5LccVGtycW9nanZTMFU/view" TargetMode="External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mailto:marija.acimovic@cik.org.rs" TargetMode="External"/><Relationship Id="rId3" Type="http://schemas.openxmlformats.org/officeDocument/2006/relationships/hyperlink" Target="mailto:milja.stijovic@cik.org.r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720" y="914400"/>
            <a:ext cx="7162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арање и управљање дигиталном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-документацијом у установама заштите културног наслеђа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ија Аћимовић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ља Стијо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ЛАТНОСТ ЗАШТИТЕ К.Н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траж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рада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апређење методологије 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ервација и рестау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ОЦЕС РАД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према предмет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за фотографис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илагођавање тере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абир и намештањ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им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рада доку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рављање електронским докумен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ПРЕМА ЗА СНИМАЊ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-апарат, објек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ветна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ти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за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ољ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ст кар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тна опрема – даљински окидачи, дифузори, ситна помоћна опрема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522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јединачне грађевине или насеља, односно делова насељ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еријер и ентериј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рхеолошко наслеђ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НЕПОКРЕТНОГ КУЛТУРНОГ НАСЛЕЂ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43545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2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 атељ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ва група предмета – слике, рамови, равни текстилни предмети, предмета испод стакла, предмети са израженим одсјај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а група предмета – избор позадине, осветљавање, специфичности археолошког, историјског, уметничког, етнолошког предмета, (одевни предмети, скулптуре, макро-фото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4205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tle 5"/>
          <p:cNvSpPr/>
          <p:nvPr/>
        </p:nvSpPr>
        <p:spPr>
          <a:xfrm>
            <a:off x="1751040" y="990720"/>
            <a:ext cx="6429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100" spc="-1" strike="noStrike">
                <a:solidFill>
                  <a:srgbClr val="000000"/>
                </a:solidFill>
                <a:latin typeface="Calibri"/>
              </a:rPr>
              <a:t>СНИМАЊЕ – ФОТОГРАФИСАЊЕ ПОКРЕТНОГ КУЛТУРНОГ НАСЛЕЂА</a:t>
            </a: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1920" y="16002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ецијалне технике снимањ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king ligh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фисање, поларизујући филтери;  HDRI (High Dynamic Range Imaging), дубинска оштрина, високе резол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имање у ултраљубичастом и инфрацрвеном спек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отограметријско снимањe музејских предм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371760" cy="2528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5381640" y="4343400"/>
            <a:ext cx="35812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3520" y="20570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рављање бо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ColorChe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еновање докум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чунарска опр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БРАДА ДИГИТАЛНИХ ФОТОГРАФИЈА</a:t>
            </a:r>
            <a:br>
              <a:rPr sz="25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4724280" y="2058840"/>
            <a:ext cx="423540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08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чување докумен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стеми за управљ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уп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авна регулатива из области заштите културног наслеђа и ауторских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ПРАВЉАЊЕ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76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поруке за стварање и управљање дигитално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ото-документацијом у институцијама заштите културног наслеђа Србије</a:t>
            </a:r>
            <a:endParaRPr b="1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060640" y="2286000"/>
            <a:ext cx="502596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716960" y="5473800"/>
            <a:ext cx="1447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љеф на прочељу фотографског атељеа Милана Јовановића, Београ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раф Предраг Михајлови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14400" y="1599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оком јесени 2014. године на електронске адресе 115 музеја и 13 завода за заштиту споменика културе прослеђена је Анкета чији је циљ био утврђивање реалног стања о стварању, коришћењу и управљању фотографском документацијом у институцијама заштите културног наслеђа у Србиј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утори Препорука су желели да текстове прилагоде стању и потребама фотографа, документариста, кустоса, конзерватора и других професионалaца из институција заштите покретног и непокретног културног наслеђ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ања су била подељена у четири груп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собе укључене у ствара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према за фотографисање и обраду фотографија коју кори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мена фото-документације у институцији у којој ра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шћење и управљање фото-документациј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2800" y="60912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Развојни пут Пере фотографа </a:t>
            </a:r>
            <a:br>
              <a:rPr sz="2800"/>
            </a:br>
            <a:br>
              <a:rPr sz="25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206856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О документацији...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кументација културног наслеђа обједињује две главне актив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лежење информација које се односе на споменике, зграде или локалитете, укључујући њихове физичке карактеристике, историју и пробл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цес организовања, интерпретације и управљања информациј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684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арадња професионалаца из неколико установа заштите: сарадници ЦИК-а, чланови Секције фотографа ДКС-а и професионалци из установа заштите наслеђ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ија Аћим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документариста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нежана Негован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матељ слике, председник Секције фотографа ДКС и сниматељ Завода за заштиту споменика културе Бео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едраг  Михајл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Народни музеј Крагујева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ељко Џик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Ц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дељко Мар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фотограф, Покрајински завод за заштиту споменика кул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арко Алекс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дипл. инж. архитектур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Југослав Пенд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апсолвент археологије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кустос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на Живкови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МА, конзерватор, сарадник ЦИ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Аутор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73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Коришћена је фото-документација </a:t>
            </a:r>
            <a:r>
              <a:rPr b="1" lang="sr-RS" sz="2500" spc="-1" strike="noStrike" u="sng">
                <a:solidFill>
                  <a:srgbClr val="000000"/>
                </a:solidFill>
                <a:uFillTx/>
                <a:latin typeface="Myriad Pro"/>
              </a:rPr>
              <a:t>17 установа заштите</a:t>
            </a:r>
            <a:r>
              <a:rPr b="1" lang="sr-RS" sz="2500" spc="-1" strike="noStrike">
                <a:solidFill>
                  <a:srgbClr val="000000"/>
                </a:solidFill>
                <a:latin typeface="Myriad Pro"/>
              </a:rPr>
              <a:t> културног наслеђа:</a:t>
            </a:r>
            <a:br>
              <a:rPr sz="2500"/>
            </a:br>
            <a:endParaRPr b="1" lang="en-US" sz="25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5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6840" y="1523520"/>
            <a:ext cx="427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Народни музеј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Завод за заштиту споменика културе Крагујева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Музеј афричке умет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Завичајни музеј Јагод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Народни музеј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Градски музеј Врш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Народни музеј Шаба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рам Светог Оца Николаја у Самош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 Галерија „Лазар Возаревић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Кућа лега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 Галерија Матице српс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 Завод за заштиту споменика културе Краље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Завод за заштиту споменика културе Ваљев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4. Завод за заштиту споменика културе Ниш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5. Завод за заштиту споменика културе Града Новог С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6. Међуопштински завод за заштиту споменика културе Суботиц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7. Покрајински завод за заштиту споменика култу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815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немају комерцијалан карактер и могу да се преузму на Facebook страници ЦИК-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facebook.com/centralniinstitutzakonzervaciju/?fref=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носно н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rive.google.com/file/d/0B4I8qSqN5LccVGtycW9nanZTMFU/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узим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штампа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имер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просторијама Центра за документацију ЦИК-а (Теразије 26, Беог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или ћемо вам послати поштом ако нисте у могућности да нас посет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За заинтересован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79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0520" y="1447560"/>
            <a:ext cx="84582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о вишегодишњег пројекта „Дигитализација документације културног наслеђа“ који се односи на истраживања актуелног стања у установама за заштиту културног наслеђа Р.С. ради објављивања стручних студија које се односе на одређене аспекте документације о културном наслеђ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ктивност у 2016. години – припрема публикације „Дигитална доступност музејске документациј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тудија Кристин Кели (Кristin Kelly) о отвореном приступу фотографијама из 2013.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yriad Pro"/>
              </a:rPr>
              <a:t>This time next year…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2" name="Footer Placeholder 7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Content Placeholder 2" descr=""/>
          <p:cNvPicPr/>
          <p:nvPr/>
        </p:nvPicPr>
        <p:blipFill>
          <a:blip r:embed="rId1"/>
          <a:stretch/>
        </p:blipFill>
        <p:spPr>
          <a:xfrm>
            <a:off x="1676520" y="1450800"/>
            <a:ext cx="5940360" cy="3959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- ПИТАЊА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рија Аћимовић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marija.acim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ља Стијовић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ilja.stijovic@cik.org.rs</a:t>
            </a: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АЖНОСТ ФОТОГРАФИЈЕ У ДОКУМЕНТАЦИЈИ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поруке CIDOC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  - ICOM C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ет фактора пропада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отографија у служби зашт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DOC -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OC-oве препоруке покривају следеће главне циљеве музејске документа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игуравање одговорности за предм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принос сигурности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еирање историјског архива о предм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могућавање физичког и интелектуалног приступа предмет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COM CC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– ПРЕВЕНТИВНА КОНЗЕРВ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ревентивна конзервац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обухвата све мере и активности које имају за циљ избегавање и умањење будућег пропадања или губитка предм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ри п.к. су адекватне мере и активности за вођење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кументациј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у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ков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бедност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у окружењу (светло, влажност, загађивачи, штеточине)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ланирањ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дуковање особљ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дизање јавне свест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авна усклађ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ЕСЕТ ФАКТОРА ПРОПАДАЊА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CI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пропадања (предмета) представљају оквир за неопходне мере превентивне конзервације које свака установа може да уведе (интерним прописом) и спроведе (практичном применом), ради сузбијања већих штета у музеј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сет фактора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чке силе                        Биолошки аге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ђа и вандализам           Загађив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атра                                       Свет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ода                                         Температур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социјација                         Релативна влаж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Дисоцијација је специфичан облик фактора пропадања, где нема видљивих, односно физичких оштећења на материјалима (изузетак су деловања других фактора, на пример штеточина – инсеката који су уништили текстилни предмет), већ је пос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едица губитка или се предмет не може лоцирати у депоу услед лошег или никаквог об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жавања предмета, губитка инвентарног броја, када се н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прати кретање или локација предмета, губитак информација о предмету због губитка инвентарних листића који се налазе на самом предмету, те неадекватног повезивања истих са предметом, или нечитљиве документације и грешака у преписивању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ИСОЦИЈАЦИЈА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Овим фактором пропадања су обухваћени сви предмети, нарочито у ванредним приликама, када се изгуби пратећа документација, посебно мањи предмети на којима није означен инвентарни број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КРАЂА И ВАНДАЛИЗАМ</a:t>
            </a:r>
            <a:endParaRPr b="1" lang="en-US" sz="28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6800" y="1642680"/>
            <a:ext cx="7829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да се деси случај крађе или вандализма, списак украдених предмета се хитно доставља поли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ставља се детаљан опис предмета са пропратном фотографијом, као и извештајем стања (ако постоји), а одељење за документацију обезбеђује смернице у овим случаје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714680" y="1023480"/>
            <a:ext cx="5900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98989"/>
              </a:solidFill>
              <a:latin typeface="Myriad Pro Cond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143760"/>
            <a:ext cx="2895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0:23:56Z</dcterms:created>
  <dc:creator>cik1</dc:creator>
  <dc:description/>
  <dc:language>en-US</dc:language>
  <cp:lastModifiedBy>Mali Đura</cp:lastModifiedBy>
  <dcterms:modified xsi:type="dcterms:W3CDTF">2016-09-29T06:15:15Z</dcterms:modified>
  <cp:revision>578</cp:revision>
  <dc:subject/>
  <dc:title>PowerPoint Presentation</dc:title>
</cp:coreProperties>
</file>